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2CE7-7D83-47B4-8DFB-A02226C61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9719-605C-492C-9740-EA0F43827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814F-4A38-4114-AD6B-196DC4C53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3438-FC51-432D-855D-A4A44ACD8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8FAB2-E3E9-43B9-B4E6-7BD68C80C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76BF9-6FE7-41B8-927D-D118B251C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B4823-0BC6-4ED9-9C73-0BA47E808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8D732-B890-4404-97E0-D381C658C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A39B6-1FA9-4247-BF97-33369D7F4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9FF3A-A310-4D39-B666-7F7C684FF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7F3B0-059F-45AF-ABCC-E914DC5A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C90E-14A1-4438-9362-98B863452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6E309-4860-4D96-8127-2124F3BD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7DC3E-418D-41B6-93C6-3AC0E661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37401-DB61-4B05-B0C7-C574933D0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3D2C0-F938-45FB-BACE-A4169DA33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EB44D-28EE-4E8A-8FEB-2FAAD8F8F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EB66-AEFA-4C3C-81FD-179563B76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7DCC-2467-41F0-9476-133EA3883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F8B5-0293-44DD-A52C-DCB191607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27AB-0D0A-45C4-9642-691329472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4D54-1501-49CC-9AF2-F3FB3AC0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A3D4-1CEB-440B-A3A9-0A9E87E2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5164-FABD-41F9-B362-5BAF64C5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C3A31-5B38-4E9B-8481-D9F581B857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6DA44-7AE2-4370-8BEC-1DD11D3075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942EB-29EE-4AA3-9112-40F9552ED08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C796-13D0-4A74-A106-DFBC3479F58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C885-85CE-4076-8FFB-B834EEA7396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131E-1072-4456-A6A0-8F1BFCCBE28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0C78-F5AD-4A13-AA6C-79F4AA4CB81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4FE0-359F-4392-860D-85E1013FD5C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04AE-6AED-438D-8DD9-25170CDCB87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9532-2C35-46B4-8C17-4A3DCEF43EF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EA5D-8CB3-41B1-AE3E-63DF591330A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7A0C-F905-40F1-9785-945F97C1A97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1A9B-7244-44EC-B9EC-7C09C85587D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1BEF-8E09-43F8-9E51-6C9BE097D46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5:52:21Z</dcterms:modified>
  <cp:revision>2</cp:revision>
  <dc:subject/>
  <dc:title>The R genetics package: tools for using genetic data in statistical  models</dc:title>
</cp:coreProperties>
</file>