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1B80F-ADB6-4636-B80B-1464B4715C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59B68-7FEF-4C50-BD5C-02A2EB6C9C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9AA83-8575-4067-AF39-CEDF85946E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9FFAF-4AEC-43FA-8924-78E499000B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4DBC84-D6A0-46C2-8099-387A6614F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CA83A6-1099-4575-A0E8-DB2FED03F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4AD409-141D-4B7B-9D07-585CB9F48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D5E6E7-1D88-4932-ADEC-F11D8D8BE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D237E2-1427-4D9E-83D1-BCA1927D7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E541AC-613C-4565-B845-0750B4DD1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CA39EC-8011-46B5-8D54-1B58096B4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C02EB-BA7F-4775-A790-D00D20D748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B93709-6D68-431A-8A76-EC224C7F3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7EEBEA-5702-4789-9CB4-A3023CF25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6B4E63-85D2-4116-8801-65A8A6ED4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94259B-79E7-4BF5-A8A3-1F77ED715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40D41F-E69B-4736-A744-09F73ED08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CAA8B-3549-4896-976F-BBE7B3B7B0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95AEC-5E7B-48E3-8591-3B1A2AE08D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D0981-F689-4A0E-B0A6-1DB51EFCFC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F47C5-A81D-4118-BD55-D3151A486E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9A9A9-E45A-466F-AD93-EFC06AF205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A63B8-499C-4D82-9D96-6A2877BE9D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9B018-1DCE-466A-B5BB-4FC87D8D92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F379D-9A58-40A2-B223-95ABC811CB64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A6512-B1E7-4A5B-8B64-7592BFB9B0EA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emo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s examples with data discus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ignette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Provides more details on the spline fitting and algorith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Includes relevant sections from DierckxSpline (199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9AE8F-85E4-4C04-90CA-5C9C153B389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9F24F-E965-4DB7-87F4-DB6160C2A92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577FB-A70E-4339-9ED2-DA8F702D9E8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51EEF-4AB0-4F42-BDB1-7BE799A4178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76E98-B70A-4FCE-A2E2-8526588A237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4BF4F-164E-41DE-9E82-97845317229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BFAA2-689D-4AD0-B56B-F85E485CF81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for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41037-3344-416A-93BC-83F429A8529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67B3C-37D2-404E-8142-60EFB150727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E1F62-9E39-45C1-BC7F-CE92C569D0F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46172-0E4B-42C4-89F1-544FFFC564C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F80FF-6B2B-487B-9837-413187B667B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786D0-732C-47EB-8CCE-AD28D918D9F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6A1A7-AAB9-4253-A60B-44164943C78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05T23:33:15Z</dcterms:modified>
  <cp:revision>164</cp:revision>
  <dc:subject/>
  <dc:title>minSpline: An R Package For Minimal Knot Splines</dc:title>
</cp:coreProperties>
</file>